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5DC-F175-4CB1-BBC3-E04134E5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1B5-7B58-4209-B4CC-807AFACA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EB6-3ECA-464F-95A0-E1396D22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974-383F-425B-AF6B-64AE4182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C684-E873-4461-B685-0756551B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B2B6-C159-49F7-B9E5-1D1B7B69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1BB8-0BCF-419E-BB65-96686BA1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3593-0A70-4E47-AE06-6426A1FB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083C-46C2-4864-9B94-26D44D47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FEAB-D080-4B8E-828C-C65F93AB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4639-9072-4D38-9BBB-3B1C55D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DBC-4847-472E-9D8E-CF398574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5282-EE01-4BB2-B49E-C990348D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5CA5-6B85-431B-8E59-E5CA0124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EE99-9B23-4F9E-9923-4E601D4A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CC9D-0D3B-4D96-9A9B-1B9AB8D8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B1FC-0818-4FC6-9204-C0E677E4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8FD-C97E-4A75-945A-C94904BD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08E-CF29-4E05-A5B6-B1CC53B8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AA2-6795-41DA-B9F1-8F31A411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0E5-F09E-41B2-9280-4B4D9B42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4C4-356B-4DBD-A514-38C4B7FC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0E8-7503-4D87-A339-1C4179EB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A42-0B4E-4E2D-8AA2-43C00A37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91DC-2C28-4019-9ABD-5F90CDEECAE4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WordArt 13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SYMET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B059-80B0-4153-A8A1-E497AC90E2CE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1106640" y="18986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0033"/>
                </a:solidFill>
                <a:latin typeface="Verdana"/>
              </a:rPr>
              <a:t>FIGURY OSIOWOSYMETRYCZNE </a:t>
            </a:r>
            <a:br>
              <a:rPr sz="3600"/>
            </a:br>
            <a:r>
              <a:rPr b="1" lang="pl-PL" sz="3600" spc="-1" strike="noStrike">
                <a:solidFill>
                  <a:srgbClr val="990033"/>
                </a:solidFill>
                <a:latin typeface="Verdana"/>
              </a:rPr>
              <a:t>I ŚRODKOWOSYMETRYCZ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c0066"/>
                </a:solidFill>
                <a:latin typeface="Arial"/>
              </a:rPr>
              <a:t>FIGURA OSIOWOSYMETRYCZ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8"/>
          <p:cNvSpPr/>
          <p:nvPr/>
        </p:nvSpPr>
        <p:spPr>
          <a:xfrm>
            <a:off x="1106640" y="1327320"/>
            <a:ext cx="7381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Jeżeli figura jest symetryczna sama do siebie względem pewnej prostej to figurę taką nazywamy </a:t>
            </a:r>
            <a:r>
              <a:rPr b="1" lang="pl-PL" sz="2400" spc="-1" strike="noStrike">
                <a:solidFill>
                  <a:srgbClr val="ff3300"/>
                </a:solidFill>
                <a:latin typeface="Arial"/>
              </a:rPr>
              <a:t>osiowosymetryczną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971640" y="261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42"/>
          <p:cNvGraphicFramePr/>
          <p:nvPr/>
        </p:nvGraphicFramePr>
        <p:xfrm>
          <a:off x="1106640" y="3429000"/>
          <a:ext cx="14778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3429000"/>
                    <a:ext cx="14778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43"/>
          <p:cNvGraphicFramePr/>
          <p:nvPr/>
        </p:nvGraphicFramePr>
        <p:xfrm>
          <a:off x="3132000" y="3429000"/>
          <a:ext cx="147816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429000"/>
                    <a:ext cx="147816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44"/>
          <p:cNvGraphicFramePr/>
          <p:nvPr/>
        </p:nvGraphicFramePr>
        <p:xfrm>
          <a:off x="6012000" y="2708280"/>
          <a:ext cx="2557440" cy="327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2708280"/>
                    <a:ext cx="255744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45"/>
          <p:cNvGraphicFramePr/>
          <p:nvPr/>
        </p:nvGraphicFramePr>
        <p:xfrm>
          <a:off x="4932360" y="3473280"/>
          <a:ext cx="762120" cy="147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473280"/>
                    <a:ext cx="76212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Group 52"/>
          <p:cNvGrpSpPr/>
          <p:nvPr/>
        </p:nvGrpSpPr>
        <p:grpSpPr>
          <a:xfrm>
            <a:off x="2006640" y="5003280"/>
            <a:ext cx="5130720" cy="1642320"/>
            <a:chOff x="2006640" y="5003280"/>
            <a:chExt cx="5130720" cy="1642320"/>
          </a:xfrm>
        </p:grpSpPr>
        <p:sp>
          <p:nvSpPr>
            <p:cNvPr id="109" name="Rectangle 46"/>
            <p:cNvSpPr/>
            <p:nvPr/>
          </p:nvSpPr>
          <p:spPr>
            <a:xfrm>
              <a:off x="3357720" y="6308280"/>
              <a:ext cx="21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990033"/>
                  </a:solidFill>
                  <a:latin typeface="Arial"/>
                </a:rPr>
                <a:t>Osie symetr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8"/>
            <p:cNvSpPr/>
            <p:nvPr/>
          </p:nvSpPr>
          <p:spPr>
            <a:xfrm flipH="1" flipV="1">
              <a:off x="2006640" y="5003280"/>
              <a:ext cx="166536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9"/>
            <p:cNvSpPr/>
            <p:nvPr/>
          </p:nvSpPr>
          <p:spPr>
            <a:xfrm flipH="1" flipV="1">
              <a:off x="3897000" y="5724360"/>
              <a:ext cx="88920" cy="3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0"/>
            <p:cNvSpPr/>
            <p:nvPr/>
          </p:nvSpPr>
          <p:spPr>
            <a:xfrm flipV="1">
              <a:off x="4707000" y="5003640"/>
              <a:ext cx="539640" cy="10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1"/>
            <p:cNvSpPr/>
            <p:nvPr/>
          </p:nvSpPr>
          <p:spPr>
            <a:xfrm flipV="1">
              <a:off x="5381640" y="5949720"/>
              <a:ext cx="175572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c0066"/>
                </a:solidFill>
                <a:latin typeface="Arial"/>
              </a:rPr>
              <a:t>FIGURA ŚRODKOWOSYMETRYCZ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106640" y="1327320"/>
            <a:ext cx="7381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Jeżeli figura jest symetryczna sama do siebie względem pewnego punktu to figurę taką nazywamy </a:t>
            </a:r>
            <a:r>
              <a:rPr b="1" lang="pl-PL" sz="2400" spc="-1" strike="noStrike">
                <a:solidFill>
                  <a:srgbClr val="ff3300"/>
                </a:solidFill>
                <a:latin typeface="Arial"/>
              </a:rPr>
              <a:t>środkowosymetryczną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971640" y="261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1106640" y="3429000"/>
          <a:ext cx="113652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3429000"/>
                    <a:ext cx="11365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2"/>
          <p:cNvGraphicFramePr/>
          <p:nvPr/>
        </p:nvGraphicFramePr>
        <p:xfrm>
          <a:off x="3267000" y="3429000"/>
          <a:ext cx="110808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3429000"/>
                    <a:ext cx="110808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3"/>
          <p:cNvGraphicFramePr/>
          <p:nvPr/>
        </p:nvGraphicFramePr>
        <p:xfrm>
          <a:off x="5111640" y="3429000"/>
          <a:ext cx="522360" cy="12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1640" y="3429000"/>
                    <a:ext cx="5223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4"/>
          <p:cNvGraphicFramePr/>
          <p:nvPr/>
        </p:nvGraphicFramePr>
        <p:xfrm>
          <a:off x="6642000" y="3429000"/>
          <a:ext cx="1136880" cy="113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42000" y="3429000"/>
                    <a:ext cx="11368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Group 25"/>
          <p:cNvGrpSpPr/>
          <p:nvPr/>
        </p:nvGrpSpPr>
        <p:grpSpPr>
          <a:xfrm>
            <a:off x="1736280" y="4059360"/>
            <a:ext cx="5401080" cy="2586240"/>
            <a:chOff x="1736280" y="4059360"/>
            <a:chExt cx="5401080" cy="2586240"/>
          </a:xfrm>
        </p:grpSpPr>
        <p:sp>
          <p:nvSpPr>
            <p:cNvPr id="128" name="Rectangle 16"/>
            <p:cNvSpPr/>
            <p:nvPr/>
          </p:nvSpPr>
          <p:spPr>
            <a:xfrm>
              <a:off x="3357720" y="6308280"/>
              <a:ext cx="21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990033"/>
                  </a:solidFill>
                  <a:latin typeface="Arial"/>
                </a:rPr>
                <a:t>środek symetr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1"/>
            <p:cNvSpPr/>
            <p:nvPr/>
          </p:nvSpPr>
          <p:spPr>
            <a:xfrm flipH="1" flipV="1">
              <a:off x="1736280" y="4059360"/>
              <a:ext cx="1979640" cy="20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 flipH="1" flipV="1">
              <a:off x="3807000" y="4059360"/>
              <a:ext cx="225360" cy="18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 flipV="1">
              <a:off x="4932360" y="4149360"/>
              <a:ext cx="449280" cy="17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 flipV="1">
              <a:off x="5292720" y="4103640"/>
              <a:ext cx="1844640" cy="18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c0066"/>
                </a:solidFill>
                <a:latin typeface="Arial"/>
              </a:rPr>
              <a:t>FIGURY SYMETRYCZ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106640" y="1175040"/>
            <a:ext cx="73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Jeżeli figura jest symetryczna sama do siebie względem pewnego punktu oraz względem pewnej prostej to figurę taką nazywamy </a:t>
            </a:r>
            <a:br>
              <a:rPr sz="2000"/>
            </a:br>
            <a:r>
              <a:rPr b="1" lang="pl-PL" sz="2400" spc="-1" strike="noStrike">
                <a:solidFill>
                  <a:srgbClr val="ff3300"/>
                </a:solidFill>
                <a:latin typeface="Arial"/>
              </a:rPr>
              <a:t>środkowosymetryczną i osiowosymetryczną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106640" y="30312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9"/>
          <p:cNvGraphicFramePr/>
          <p:nvPr/>
        </p:nvGraphicFramePr>
        <p:xfrm>
          <a:off x="2951280" y="3909960"/>
          <a:ext cx="5220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1280" y="3909960"/>
                    <a:ext cx="5220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20"/>
          <p:cNvGraphicFramePr/>
          <p:nvPr/>
        </p:nvGraphicFramePr>
        <p:xfrm>
          <a:off x="4257720" y="3841920"/>
          <a:ext cx="147780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7720" y="3841920"/>
                    <a:ext cx="147780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21"/>
          <p:cNvGraphicFramePr/>
          <p:nvPr/>
        </p:nvGraphicFramePr>
        <p:xfrm>
          <a:off x="6507000" y="3606840"/>
          <a:ext cx="1667160" cy="180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07000" y="3606840"/>
                    <a:ext cx="166716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798480" y="3417840"/>
          <a:ext cx="1838520" cy="212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8480" y="3417840"/>
                    <a:ext cx="183852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106640" y="1522800"/>
            <a:ext cx="706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Narysuj dwie figury osiowosymetry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2. Narysuj dwie figury środkowosymetry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3. Narysuj dwie figury zarówno osiowosymetryczne, jak</a:t>
            </a:r>
            <a:br>
              <a:rPr sz="2000"/>
            </a:b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 i środkowosymetry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UDT</cp:lastModifiedBy>
  <dcterms:modified xsi:type="dcterms:W3CDTF">2013-08-30T20:55:02Z</dcterms:modified>
  <cp:revision>122</cp:revision>
  <dc:subject/>
  <dc:title>Slajd 1</dc:title>
</cp:coreProperties>
</file>